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532EE-B19A-46F6-9B3B-2C9F5DAEC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D4714-BE4C-4126-B230-A50F3C405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FAFB2-0ADC-476B-80A5-407C4C7E3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4F99E-9AC9-4635-8604-CF1EA67A2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FABBB-1151-43AE-8372-9A32EC3553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A81C0-8B11-445B-92D1-77F031FB0F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19EB2-85A0-48EF-9492-05CAA3A2EA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D5486-1951-4606-B687-97462CE082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192FB-41DE-43DB-B198-0E5FBEDADB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4A582-07DB-4ECA-87F9-0F06F01D88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ED7C3-2A3D-4379-A533-C2FFB594C1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37FF4-9800-4546-93A3-3BA53F41B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6A7D1-C119-4592-BC3F-92D765E284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A0CE7-3E0B-4CFE-8D89-7991115F6E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7DCC8-1D46-44F6-A121-4309A05370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D67C5-3757-45F0-8B06-95B16A6A74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EE7F9-AC82-4DE3-84C5-6B1C0B9DDC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EFF96-D04F-467E-B6B1-BAE40A1EF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AA96E-4CF7-4C1E-A858-89DD96A19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57A36-C3C1-4D3A-AC48-3934D6F66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B7BD3-897A-4E86-BA3C-3647F72B2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3F0EE-EF85-4081-B62E-E776D4744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D25F6-0861-4842-B46E-3E5AD94D3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72947-2DAF-4007-B9D7-891E9FD8D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6760"/>
            <a:ext cx="213372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9633-1CF9-4D91-8D73-466DEB1D3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22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90360" cy="42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533160" y="61722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009920" y="6243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CCB9-0724-4E2D-9F14-BFEB59AB5D9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762120"/>
            <a:ext cx="7925040" cy="19810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624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Local Congestion Costs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2003-2005</a:t>
            </a:r>
            <a:endParaRPr b="1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22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dated March 1, 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OOMC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3220B-22C1-4E37-BAE5-1A13ACD5AD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Unit Specific-Up by Area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763120" cy="548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FF10B-F576-4587-A3B3-C029F076F3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Unit Specific-Up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68680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4F7A3-6652-47B1-B68B-4A0299D53C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Unit Specific-Up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410320" cy="541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6D9BE-3155-49FA-B760-6EEE81C6FB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Unit Specific-Down by Area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30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EEC37-2446-4593-94CA-2F9A5FCCE8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Unit Specific-Down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A9808-E221-4AC2-93E0-CA3FDE0023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Unit Specific-Down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AA968-AD6E-4628-A4A5-1DEED1738C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RMR Net by Area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EBEFD-960C-4113-B8D7-D40A3D39D6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RMR Net Totals by Unit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89E36-D1A9-4E29-81CD-25E6D189D6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RMR Net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53452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5BF3-E313-4FF1-B336-B048587A68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Outline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st Comparison 2004 vs. 2005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O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 Specific-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 Specific-D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Local Congestion costs in 2005 were lower than 20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 Specific-Up and OOMC costs were slightly hig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2005 Fuel Index was 40% higher than 20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71E81-4F03-4044-865F-525EC4EFF1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RMR Net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EA72C-0FDE-47F2-9BCF-37546D58F7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Fuel Index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55760" y="2413080"/>
          <a:ext cx="4630680" cy="287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5760" y="2413080"/>
                    <a:ext cx="4630680" cy="28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7200" y="1036800"/>
            <a:ext cx="8172360" cy="52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2FA4F-448A-4CF2-8BF3-274CC98CB8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Average MCPE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55760" y="2413080"/>
          <a:ext cx="4630680" cy="287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5760" y="2413080"/>
                    <a:ext cx="4630680" cy="28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04920" y="914400"/>
            <a:ext cx="853416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3CBE8-322B-4E9F-A352-51F950A956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What Are Local Congestion Costs?</a:t>
            </a:r>
            <a:endParaRPr b="1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OM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A generator that did not plan to be on-line is paid to start and run at minim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Unit Specific - U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A generator is paid to operate at a higher output than planned. Includes OOME and LB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Unit Specific - Dow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A generator is paid to operate at a lower output than planned. Includes OOME and LB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M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Reliability Must Run – A generator is paid to be available and operate as directed when the owner would have otherwise suspended operation for an extended period of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82277-0BBE-4276-A035-F9A22171CA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 Narrow"/>
              </a:rPr>
              <a:t>Local Congestion Costs</a:t>
            </a:r>
            <a:br>
              <a:rPr sz="3800"/>
            </a:b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($ Millions)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1676520"/>
          <a:ext cx="8305920" cy="4367160"/>
        </p:xfrm>
        <a:graphic>
          <a:graphicData uri="http://schemas.openxmlformats.org/drawingml/2006/table">
            <a:tbl>
              <a:tblPr/>
              <a:tblGrid>
                <a:gridCol w="2971800"/>
                <a:gridCol w="1981440"/>
                <a:gridCol w="1600200"/>
                <a:gridCol w="1752480"/>
              </a:tblGrid>
              <a:tr h="796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200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20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2005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C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5.3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78.9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82.7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Specific-U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.2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0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5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Specific- Dow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.0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.4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5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138.7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12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100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05.2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79.0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62.3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B5259-7781-47E5-AEE4-D74A395CAC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Local Congestion Costs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077840"/>
          <a:ext cx="9144000" cy="50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77840"/>
                    <a:ext cx="9144000" cy="50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12694-460D-4D28-A950-AAF9CCB3CA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80880" y="1523880"/>
          <a:ext cx="8382240" cy="4362480"/>
        </p:xfrm>
        <a:graphic>
          <a:graphicData uri="http://schemas.openxmlformats.org/drawingml/2006/table">
            <a:tbl>
              <a:tblPr/>
              <a:tblGrid>
                <a:gridCol w="2743200"/>
                <a:gridCol w="1676520"/>
                <a:gridCol w="2057400"/>
                <a:gridCol w="1905120"/>
              </a:tblGrid>
              <a:tr h="79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$ Mill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MWh(000s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$/MWh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C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4.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Specific- U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5.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Specific- Dow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4.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100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353.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4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2.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27.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2005 Congestion Cost</a:t>
            </a:r>
            <a:br>
              <a:rPr sz="3400"/>
            </a:b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$ Per MW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2E10B-DF5F-4BAB-9DAE-1C3D7DF484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04920" y="1523880"/>
          <a:ext cx="8305200" cy="4343040"/>
        </p:xfrm>
        <a:graphic>
          <a:graphicData uri="http://schemas.openxmlformats.org/drawingml/2006/table">
            <a:tbl>
              <a:tblPr/>
              <a:tblGrid>
                <a:gridCol w="2351160"/>
                <a:gridCol w="2264040"/>
                <a:gridCol w="1980720"/>
                <a:gridCol w="1709280"/>
              </a:tblGrid>
              <a:tr h="81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$ Mill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MWh (000s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$/MWh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C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.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6.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E Up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5.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E Dow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6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12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034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9.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62.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2004 Congestion Cost</a:t>
            </a:r>
            <a:br>
              <a:rPr sz="3400"/>
            </a:b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$ Per MW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601C1-EF0B-4641-A9F4-AA23153764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OOMC by Area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541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5FE15-B55D-4F43-A1F8-0FBED395D2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OOMC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61048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D59C0-F1AF-443A-8D7D-18B8E8C08C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9:22:49Z</dcterms:created>
  <dc:creator>iflores</dc:creator>
  <dc:description/>
  <dc:language>en-US</dc:language>
  <cp:lastModifiedBy>mbarchenger</cp:lastModifiedBy>
  <dcterms:modified xsi:type="dcterms:W3CDTF">2006-03-15T15:32:51Z</dcterms:modified>
  <cp:revision>112</cp:revision>
  <dc:subject/>
  <dc:title>CSC util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2441485</vt:r8>
  </property>
  <property fmtid="{D5CDD505-2E9C-101B-9397-08002B2CF9AE}" pid="3" name="_AuthorEmail">
    <vt:lpwstr>bgarza@ercot.com</vt:lpwstr>
  </property>
  <property fmtid="{D5CDD505-2E9C-101B-9397-08002B2CF9AE}" pid="4" name="_AuthorEmailDisplayName">
    <vt:lpwstr>Garza, Beth</vt:lpwstr>
  </property>
  <property fmtid="{D5CDD505-2E9C-101B-9397-08002B2CF9AE}" pid="5" name="_EmailSubject">
    <vt:lpwstr>Draft agenda for the 4/19/06 WMS Meeting</vt:lpwstr>
  </property>
  <property fmtid="{D5CDD505-2E9C-101B-9397-08002B2CF9AE}" pid="6" name="_NewReviewCycle">
    <vt:lpwstr/>
  </property>
</Properties>
</file>